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B55-F4D2-4896-A54E-1D89E1D1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0AA-DF12-4276-AE32-AFD7F68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B02-00B5-43F4-8439-F9646212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7D8-3228-4D09-BEB4-7D6C7F0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378-1984-445F-83C9-C67742A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91E-C342-44E7-900D-E3CB9F0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50C-C7F8-4E22-A256-CE49F36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590-964D-46CE-9309-04D2866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474-A085-4E1F-B6EE-DCC49281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6FA-7F83-454C-9C98-61E3AB7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6C2-B28E-4564-95E4-4CE9050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010-2C3E-48F7-B07E-C5BB8FC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999-313E-4A05-967B-3FD4118A8BD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etwork databases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emory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bject layers on top of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M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vascript &amp; 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avascripti ap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Network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emory database: max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Relational 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rg(id,name,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15,boeing,2233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Extra field with a list of pointers to perso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erson(id,name,age,org_i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_id references org(i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102,john,18,15): instead of 15 and index, use direct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ar(id,mark,nr,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wner references person(i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lect person.name, org.name from person, org where person.org_id=org.id and person.age&lt;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ata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ndex on the org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id,name,ph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id,name,age,org_i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lect person.name, org.name from person, org where person.org_id=org.id and person.age&lt;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_,PN,PA,OI_1) &amp; org(OI_2,_,_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I_1=OI_2 &amp; PA&lt;20 =&gt; answer(PN,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102,john,18, Org_from_id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103,peter,20, Org(18,ford,223345)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16,ford,22334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* * * * * * * * *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(15,boeing,2233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g_from_id(15)=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Person(_,PN,PA, Org(OID,ON,OP))  &amp; PA&lt;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=&gt; answer(PN,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unktsioon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nd(jaan,ants). (predika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nd(jaan,mihk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nd(jaan,isa(isa(vello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[1,3,8]   pair(1,pair(3,pair(8,nil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mber(X,pair(X,Y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mber(X,Y) =&gt; member(X,pair(_,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a(jaan,peeter). isa(jaan)=p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a(ants,peeter). isa(ants)=p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a(veiko,jaan). isa(veiko)=j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/html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li&gt;a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li&gt;b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Ul no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nod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nte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to UI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b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onte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to UI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ointer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Minim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ointer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ointer to next sib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ointer to first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Database lik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rray of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ome fields are pointers to sub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erson(103,peter,20, Org(18,ford,223345)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Org(18,ford,223345)) should have pointers to all parents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1000 pointers to person records where this org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id&gt;103&lt;/i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name&gt;peter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age&gt;20&lt;/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or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id&gt;18&lt;/i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name&gt;ford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hone&gt;223345&lt;/phon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/or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6:50:07Z</dcterms:created>
  <dc:creator>lektor</dc:creator>
  <dc:description/>
  <dc:language>en-US</dc:language>
  <cp:lastModifiedBy>lektor</cp:lastModifiedBy>
  <dcterms:modified xsi:type="dcterms:W3CDTF">2008-11-20T08:07:38Z</dcterms:modified>
  <cp:revision>2</cp:revision>
  <dc:subject/>
  <dc:title>a</dc:title>
</cp:coreProperties>
</file>